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2F8-8B11-47D1-8EFC-62C2A24F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CAA-ABD4-4D8B-8A57-6EF7DB42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E27-6C78-4348-98BD-23757A42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997-B8B2-4E01-8625-4E28CDEA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598-3D55-42F2-9B37-18679654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BE4-AEFB-4463-B232-B8FF70EE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F90-992D-4D7C-B382-011456AA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D09-BE82-4592-BA1B-61E7F286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037-C1EE-472B-A9D5-3CDE27E2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F93-BE9C-46C7-A2D1-8CBA7FB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47C-7657-44DD-B3A3-69287FC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28C-2AE9-453B-9502-AF165FA8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2663-FAF9-4CAE-AF33-C83672453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empus Sans ITC"/>
              </a:rPr>
              <a:t>DECIDUOUS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empus Sans ITC"/>
              </a:rPr>
              <a:t>FOREST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Tempus Sans ITC"/>
              </a:rPr>
              <a:t>FOOD WEB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8:58:31Z</dcterms:created>
  <dc:creator>Andrew Green</dc:creator>
  <dc:description/>
  <dc:language>en-US</dc:language>
  <cp:lastModifiedBy>Phil Dorjath</cp:lastModifiedBy>
  <dcterms:modified xsi:type="dcterms:W3CDTF">2011-04-27T05:39:53Z</dcterms:modified>
  <cp:revision>1</cp:revision>
  <dc:subject/>
  <dc:title>DECIDUOUS  FOREST  FOOD WEB</dc:title>
</cp:coreProperties>
</file>